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2"/>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3C6F1-9D54-46DB-8E91-6D584C7570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47AB8-1415-40F6-9F49-B9342C02581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AEBB2-76F0-4EFF-9677-9943A18DB255}"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2E591-6C00-4996-B3E0-03F3495E7797}"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01720"/>
            <a:ext cx="5346720" cy="4010040"/>
          </a:xfrm>
          <a:prstGeom prst="rect">
            <a:avLst/>
          </a:prstGeom>
          <a:ln w="0">
            <a:noFill/>
          </a:ln>
        </p:spPr>
      </p:sp>
      <p:sp>
        <p:nvSpPr>
          <p:cNvPr id="16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D2CB4-F9A8-41B0-B00A-29E80A303518}"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8"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6BBCE-00F0-46DD-AF9A-8B9296EB1E0C}"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01720"/>
            <a:ext cx="5346720" cy="4010040"/>
          </a:xfrm>
          <a:prstGeom prst="rect">
            <a:avLst/>
          </a:prstGeom>
          <a:ln w="0">
            <a:noFill/>
          </a:ln>
        </p:spPr>
      </p:sp>
      <p:sp>
        <p:nvSpPr>
          <p:cNvPr id="17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955C4-8D12-4DA2-B641-A860AEC2F79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EB35C-777A-4457-9738-6AC01F2E3D61}"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3" name="PlaceHolder 1"/>
          <p:cNvSpPr>
            <a:spLocks noGrp="1"/>
          </p:cNvSpPr>
          <p:nvPr>
            <p:ph type="sldImg"/>
          </p:nvPr>
        </p:nvSpPr>
        <p:spPr>
          <a:xfrm>
            <a:off x="1106640" y="801720"/>
            <a:ext cx="5346720" cy="4010040"/>
          </a:xfrm>
          <a:prstGeom prst="rect">
            <a:avLst/>
          </a:prstGeom>
          <a:ln w="0">
            <a:noFill/>
          </a:ln>
        </p:spPr>
      </p:sp>
      <p:sp>
        <p:nvSpPr>
          <p:cNvPr id="17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3758C-B812-495A-8944-1131C14B363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8CE575-2823-4C92-8C49-6D8676D5B6B9}"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7" name="PlaceHolder 1"/>
          <p:cNvSpPr>
            <a:spLocks noGrp="1"/>
          </p:cNvSpPr>
          <p:nvPr>
            <p:ph type="sldImg"/>
          </p:nvPr>
        </p:nvSpPr>
        <p:spPr>
          <a:xfrm>
            <a:off x="1106640" y="801720"/>
            <a:ext cx="5346720" cy="4010040"/>
          </a:xfrm>
          <a:prstGeom prst="rect">
            <a:avLst/>
          </a:prstGeom>
          <a:ln w="0">
            <a:noFill/>
          </a:ln>
        </p:spPr>
      </p:sp>
      <p:sp>
        <p:nvSpPr>
          <p:cNvPr id="17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96F17A-711C-4254-AAE3-BA2986800157}"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7F096-D917-4721-86C8-EDFA0B837106}"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01720"/>
            <a:ext cx="5346720" cy="4010040"/>
          </a:xfrm>
          <a:prstGeom prst="rect">
            <a:avLst/>
          </a:prstGeom>
          <a:ln w="0">
            <a:noFill/>
          </a:ln>
        </p:spPr>
      </p:sp>
      <p:sp>
        <p:nvSpPr>
          <p:cNvPr id="18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BD6978-ECEB-41A4-98E9-8E982D1498AB}"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69573-547C-4D36-B913-5CC53C43A688}"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5" name="PlaceHolder 1"/>
          <p:cNvSpPr>
            <a:spLocks noGrp="1"/>
          </p:cNvSpPr>
          <p:nvPr>
            <p:ph type="sldImg"/>
          </p:nvPr>
        </p:nvSpPr>
        <p:spPr>
          <a:xfrm>
            <a:off x="1106640" y="801720"/>
            <a:ext cx="5346720" cy="4010040"/>
          </a:xfrm>
          <a:prstGeom prst="rect">
            <a:avLst/>
          </a:prstGeom>
          <a:ln w="0">
            <a:noFill/>
          </a:ln>
        </p:spPr>
      </p:sp>
      <p:sp>
        <p:nvSpPr>
          <p:cNvPr id="18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418FCD-5B7C-43C5-9E14-B4C1C21077BB}"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8"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732659-97C4-48E9-924C-2D1154328D0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01720"/>
            <a:ext cx="5346720" cy="4010040"/>
          </a:xfrm>
          <a:prstGeom prst="rect">
            <a:avLst/>
          </a:prstGeom>
          <a:ln w="0">
            <a:noFill/>
          </a:ln>
        </p:spPr>
      </p:sp>
      <p:sp>
        <p:nvSpPr>
          <p:cNvPr id="19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2A81C-656F-4563-B42B-17D8ADDDDE1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69B7A-3459-44A0-8B6D-872E291D1C21}"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106640" y="801720"/>
            <a:ext cx="5346720" cy="4010040"/>
          </a:xfrm>
          <a:prstGeom prst="rect">
            <a:avLst/>
          </a:prstGeom>
          <a:ln w="0">
            <a:noFill/>
          </a:ln>
        </p:spPr>
      </p:sp>
      <p:sp>
        <p:nvSpPr>
          <p:cNvPr id="19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318BA-A7F6-4014-8C29-A16E8EEDE3B8}"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95CA57-9A9B-4FAA-8FCB-A30A7AB67BF2}"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7" name="PlaceHolder 1"/>
          <p:cNvSpPr>
            <a:spLocks noGrp="1"/>
          </p:cNvSpPr>
          <p:nvPr>
            <p:ph type="sldImg"/>
          </p:nvPr>
        </p:nvSpPr>
        <p:spPr>
          <a:xfrm>
            <a:off x="1106640" y="801720"/>
            <a:ext cx="5346720" cy="4010040"/>
          </a:xfrm>
          <a:prstGeom prst="rect">
            <a:avLst/>
          </a:prstGeom>
          <a:ln w="0">
            <a:noFill/>
          </a:ln>
        </p:spPr>
      </p:sp>
      <p:sp>
        <p:nvSpPr>
          <p:cNvPr id="19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2247F7-5F7E-48B2-B85A-7ED11CEE4830}"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20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47BE8-9ECE-44E6-95E4-3F66A04A515A}"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01720"/>
            <a:ext cx="5346720" cy="4010040"/>
          </a:xfrm>
          <a:prstGeom prst="rect">
            <a:avLst/>
          </a:prstGeom>
          <a:ln w="0">
            <a:noFill/>
          </a:ln>
        </p:spPr>
      </p:sp>
      <p:sp>
        <p:nvSpPr>
          <p:cNvPr id="20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665D6-6A80-4334-9C34-428F2E3EF853}"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8B96A-6602-40A4-BB12-35661CA4E9BF}"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01720"/>
            <a:ext cx="5346720" cy="4010040"/>
          </a:xfrm>
          <a:prstGeom prst="rect">
            <a:avLst/>
          </a:prstGeom>
          <a:ln w="0">
            <a:noFill/>
          </a:ln>
        </p:spPr>
      </p:sp>
      <p:sp>
        <p:nvSpPr>
          <p:cNvPr id="13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07366-5B67-499D-BE82-36948D699516}"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20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1935F-3835-4BEA-A3FD-A1F575D0BE6E}"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5" name="PlaceHolder 1"/>
          <p:cNvSpPr>
            <a:spLocks noGrp="1"/>
          </p:cNvSpPr>
          <p:nvPr>
            <p:ph type="sldImg"/>
          </p:nvPr>
        </p:nvSpPr>
        <p:spPr>
          <a:xfrm>
            <a:off x="1106640" y="801720"/>
            <a:ext cx="5346720" cy="4010040"/>
          </a:xfrm>
          <a:prstGeom prst="rect">
            <a:avLst/>
          </a:prstGeom>
          <a:ln w="0">
            <a:noFill/>
          </a:ln>
        </p:spPr>
      </p:sp>
      <p:sp>
        <p:nvSpPr>
          <p:cNvPr id="20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0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20119-3433-400F-B150-BCBE49355CA1}"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1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57FF6-5232-4C30-B3C7-AC8B3F06907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1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7FEE4-C085-4E33-9248-32EE5C21946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1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A0A82-BD31-4A9F-8D77-2638E763BA54}"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2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2B23B-A3CC-41B9-92D6-BCF4A1C6C210}"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D8C12-8D9A-4D31-B277-472D4C65E139}"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26"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D5A0C-01B3-4D14-A775-C7BEC0D5533A}"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7"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8"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22599-D3C6-4321-BC99-5459C7195574}"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2"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44581-3C46-40C1-9BF1-17291E315B59}"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34"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41977-FFCA-4F65-A2C7-D15D75E45F74}"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B205D-40CF-475B-A1F3-8F2B867255C3}"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4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6B820C-E706-4141-9EB5-435C086890A7}"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4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E7BE4-F666-4B58-B996-0879CF199D5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4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5B6CE5-3470-4FB0-99A7-F047D793B171}"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5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5D193F-5DF2-40E7-B43B-7EFDC8552440}"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88509-702D-487C-869E-3501947FBF2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56"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2FFEC-6605-417B-83FC-BFDC7FA37BEF}"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8"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CCA96-944E-4234-A4AF-1209A537D86A}"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31236-6CB3-4275-AE9E-8C62F48804EB}"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1068A-2F4E-4741-8416-7D1658C714D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106640" y="801720"/>
            <a:ext cx="5346720" cy="4010040"/>
          </a:xfrm>
          <a:prstGeom prst="rect">
            <a:avLst/>
          </a:prstGeom>
          <a:ln w="0">
            <a:noFill/>
          </a:ln>
        </p:spPr>
      </p:sp>
      <p:sp>
        <p:nvSpPr>
          <p:cNvPr id="13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2"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EC8C4-1443-4769-B1F6-651DBED5476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3"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64"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15D9F-C81C-4557-8463-24C56A1CB03C}"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7886F-7FA9-4F3A-B93F-A22BAE0B2EB8}"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7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1FF6C-AD88-442A-8295-C783A459CDB3}"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7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51E28-997E-481E-8871-D6CF10BB9D76}"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7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40B5D-A77A-4C96-B084-854461BE120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8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1C382-FE91-4523-9D12-CDAFC6CA5723}"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016E8-5D63-4C0E-A7EE-CD9A36D75AC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86"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6BD4AC-A93B-462D-8E9C-60DEA028BC1E}"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7"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8"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6AB45-3FBB-4391-9653-94E09114FF93}"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2"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FBBE9-1175-4DDE-8528-9EC6235C43A1}"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94"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DC03C-E822-4554-9CDC-7E638203E55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8"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8B4DC-4EB6-4DBE-BD7B-9797BF2F9F4E}"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00"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EDCE6-6611-4ACC-8A59-9D491E23FC7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04"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0C633-AAB7-48EF-8569-3CDF57B60AC0}"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5"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06"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802F7-A45C-48D5-8A37-537D8F11F5A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10"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83D32-7240-43FE-A2CD-9D9B9D2EBF80}"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1"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12"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BFF72-6286-4C8D-82F5-10D4634376E2}"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30701-AD5C-4A8C-96FB-87811A29DD4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FD9C0-5107-4103-A108-15897239D89D}"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1106640" y="801720"/>
            <a:ext cx="5346720" cy="4010040"/>
          </a:xfrm>
          <a:prstGeom prst="rect">
            <a:avLst/>
          </a:prstGeom>
          <a:ln w="0">
            <a:noFill/>
          </a:ln>
        </p:spPr>
      </p:sp>
      <p:sp>
        <p:nvSpPr>
          <p:cNvPr id="14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E51E1-4900-4EF7-9F39-67B361EA466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4"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A24D3-C839-457E-9357-9666A5AD1573}"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01720"/>
            <a:ext cx="5346720" cy="4010040"/>
          </a:xfrm>
          <a:prstGeom prst="rect">
            <a:avLst/>
          </a:prstGeom>
          <a:ln w="0">
            <a:noFill/>
          </a:ln>
        </p:spPr>
      </p:sp>
      <p:sp>
        <p:nvSpPr>
          <p:cNvPr id="14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95958-06AF-4836-A758-142206B0CE05}"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8"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5C3EE-F6B7-4FFE-A3CD-1CD06AE556B9}"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9" name="PlaceHolder 1"/>
          <p:cNvSpPr>
            <a:spLocks noGrp="1"/>
          </p:cNvSpPr>
          <p:nvPr>
            <p:ph type="sldImg"/>
          </p:nvPr>
        </p:nvSpPr>
        <p:spPr>
          <a:xfrm>
            <a:off x="1106640" y="801720"/>
            <a:ext cx="5346720" cy="4010040"/>
          </a:xfrm>
          <a:prstGeom prst="rect">
            <a:avLst/>
          </a:prstGeom>
          <a:ln w="0">
            <a:noFill/>
          </a:ln>
        </p:spPr>
      </p:sp>
      <p:sp>
        <p:nvSpPr>
          <p:cNvPr id="15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041849-275D-443E-B2CD-4AA5A9412C30}"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2"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F66259-554A-47C6-82CE-D2281A4FFE5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3" name="PlaceHolder 1"/>
          <p:cNvSpPr>
            <a:spLocks noGrp="1"/>
          </p:cNvSpPr>
          <p:nvPr>
            <p:ph type="sldImg"/>
          </p:nvPr>
        </p:nvSpPr>
        <p:spPr>
          <a:xfrm>
            <a:off x="1106640" y="801720"/>
            <a:ext cx="5346720" cy="4010040"/>
          </a:xfrm>
          <a:prstGeom prst="rect">
            <a:avLst/>
          </a:prstGeom>
          <a:ln w="0">
            <a:noFill/>
          </a:ln>
        </p:spPr>
      </p:sp>
      <p:sp>
        <p:nvSpPr>
          <p:cNvPr id="15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B5EAB1-4027-44B4-BE95-09CFD5711891}"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6"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49ABF-AD71-4BFC-A757-1FF98EFC055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01720"/>
            <a:ext cx="5346720" cy="4010040"/>
          </a:xfrm>
          <a:prstGeom prst="rect">
            <a:avLst/>
          </a:prstGeom>
          <a:ln w="0">
            <a:noFill/>
          </a:ln>
        </p:spPr>
      </p:sp>
      <p:sp>
        <p:nvSpPr>
          <p:cNvPr id="15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2160"/>
                <a:tab algn="l" pos="1446120"/>
                <a:tab algn="l" pos="2170080"/>
                <a:tab algn="l" pos="28940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B13BD-D18F-4108-BBBA-2C20248F5ED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0" name=""/>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12452-F324-416C-94E2-A94C0D33D3C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1" name="PlaceHolder 1"/>
          <p:cNvSpPr>
            <a:spLocks noGrp="1"/>
          </p:cNvSpPr>
          <p:nvPr>
            <p:ph type="sldImg"/>
          </p:nvPr>
        </p:nvSpPr>
        <p:spPr>
          <a:xfrm>
            <a:off x="1106640" y="801720"/>
            <a:ext cx="5346720" cy="4010040"/>
          </a:xfrm>
          <a:prstGeom prst="rect">
            <a:avLst/>
          </a:prstGeom>
          <a:ln w="0">
            <a:noFill/>
          </a:ln>
        </p:spPr>
      </p:sp>
      <p:sp>
        <p:nvSpPr>
          <p:cNvPr id="16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A9422-44EF-4C17-83D0-72DF4CC4C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A3481-9671-43EE-9417-79E1020A4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431BA9-2283-496A-96AE-9C6D77A44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172C2-8764-4CEC-BBA8-ED4C2F20A0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4A274-43E5-40E5-A0CD-7AF369F2F6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52D04-0D1B-4441-B9D2-9C2BE40F9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9A903-D2BB-40CE-A61B-70C8469F58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8CEAEC-DFB9-4C28-9228-FF8DECB81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E383C8-F7D0-41FC-BE0F-8AA191786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5C740-84C0-44D1-AC74-4B2002E2A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A67F1-EF38-4AD7-8017-1F967A62E3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21DC5-2712-46B0-96E2-FA7C8E61F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722160"/>
                <a:tab algn="l" pos="1446120"/>
                <a:tab algn="l" pos="21700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2160"/>
                <a:tab algn="l" pos="1446120"/>
                <a:tab algn="l" pos="21700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002C7-DD98-4E4E-8377-32A591E7CF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96960" y="1112760"/>
            <a:ext cx="9097920" cy="3997440"/>
          </a:xfrm>
          <a:prstGeom prst="rect">
            <a:avLst/>
          </a:prstGeom>
          <a:noFill/>
          <a:ln w="0">
            <a:noFill/>
          </a:ln>
        </p:spPr>
        <p:style>
          <a:lnRef idx="0"/>
          <a:fillRef idx="0"/>
          <a:effectRef idx="0"/>
          <a:fontRef idx="minor"/>
        </p:style>
        <p:txBody>
          <a:bodyPr lIns="0" rIns="0" tIns="42480" bIns="0" anchor="ctr">
            <a:noAutofit/>
          </a:bodyPr>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r>
              <a:rPr b="0" lang="en-US" sz="4800" spc="-1" strike="noStrike">
                <a:solidFill>
                  <a:srgbClr val="000000"/>
                </a:solidFill>
                <a:latin typeface="Arial"/>
              </a:rPr>
              <a:t>Knowledge representation</a:t>
            </a:r>
            <a:br>
              <a:rPr sz="4800"/>
            </a:br>
            <a:br>
              <a:rPr sz="4800"/>
            </a:br>
            <a:r>
              <a:rPr b="0" lang="en-US" sz="3600" spc="-1" strike="noStrike">
                <a:solidFill>
                  <a:srgbClr val="000000"/>
                </a:solidFill>
                <a:latin typeface="Arial"/>
              </a:rPr>
              <a:t>lecture </a:t>
            </a:r>
            <a:r>
              <a:rPr b="0" lang="et-EE" sz="3600" spc="-1" strike="noStrike">
                <a:solidFill>
                  <a:srgbClr val="000000"/>
                </a:solidFill>
                <a:latin typeface="Arial"/>
              </a:rPr>
              <a:t>2 second part, lecture 3 first part</a:t>
            </a:r>
            <a:r>
              <a:rPr b="0" lang="en-US" sz="3600" spc="-1" strike="noStrike">
                <a:solidFill>
                  <a:srgbClr val="000000"/>
                </a:solidFill>
                <a:latin typeface="Arial"/>
              </a:rPr>
              <a:t>: </a:t>
            </a:r>
            <a:br>
              <a:rPr sz="3600"/>
            </a:br>
            <a:br>
              <a:rPr sz="3600"/>
            </a:br>
            <a:r>
              <a:rPr b="0" lang="et-EE" sz="3600" spc="-1" strike="noStrike">
                <a:solidFill>
                  <a:srgbClr val="000000"/>
                </a:solidFill>
                <a:latin typeface="Arial"/>
              </a:rPr>
              <a:t>Schemaless databases, </a:t>
            </a:r>
            <a:br>
              <a:rPr sz="3600"/>
            </a:br>
            <a:br>
              <a:rPr sz="3600"/>
            </a:br>
            <a:r>
              <a:rPr b="0" lang="et-EE" sz="3200" spc="-1" strike="noStrike">
                <a:solidFill>
                  <a:srgbClr val="000000"/>
                </a:solidFill>
                <a:latin typeface="Arial"/>
              </a:rPr>
              <a:t>RDF and RDFS.</a:t>
            </a:r>
            <a:br>
              <a:rPr sz="3200"/>
            </a:br>
            <a:endParaRPr b="0" lang="en-US" sz="3200" spc="-1" strike="noStrike">
              <a:solidFill>
                <a:srgbClr val="000000"/>
              </a:solidFill>
              <a:latin typeface="Arial"/>
            </a:endParaRPr>
          </a:p>
        </p:txBody>
      </p:sp>
      <p:sp>
        <p:nvSpPr>
          <p:cNvPr id="50" name=""/>
          <p:cNvSpPr/>
          <p:nvPr/>
        </p:nvSpPr>
        <p:spPr>
          <a:xfrm>
            <a:off x="849240" y="4541760"/>
            <a:ext cx="9097920" cy="2141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9601200"/>
                <a:tab algn="l" pos="10058400"/>
                <a:tab algn="l" pos="10515600"/>
              </a:tabLst>
            </a:pPr>
            <a:r>
              <a:rPr b="0" lang="en-US" sz="3200" spc="-1" strike="noStrike">
                <a:solidFill>
                  <a:srgbClr val="000000"/>
                </a:solidFill>
                <a:latin typeface="Arial"/>
              </a:rPr>
              <a:t>T. Tamme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Example in Turtle syntax</a:t>
            </a:r>
            <a:endParaRPr b="0" lang="en-US" sz="4900" spc="-1" strike="noStrike">
              <a:solidFill>
                <a:srgbClr val="000000"/>
              </a:solidFill>
              <a:latin typeface="Arial"/>
            </a:endParaRPr>
          </a:p>
        </p:txBody>
      </p:sp>
      <p:sp>
        <p:nvSpPr>
          <p:cNvPr id="69"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prefix rdf: &lt;http://www.w3.org/1999/02/22-rdf-syntax-ns#&g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prefix dc: &lt;http://purl.org/dc/elements/1.1/&g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prefix ex: &lt;http://example.org/stuff/1.0/&g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lt;http://www.w3.org/TR/rdf-syntax-grammar&gt;</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dc:title "RDF/XML Syntax Specification (Revised)"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editor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fullname "Dave Beckett";</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homePage &lt;http://purl.org/net/dajobe/&gt;</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 .</a:t>
            </a:r>
            <a:endParaRPr b="0" lang="en-US" sz="2400" spc="-1" strike="noStrike">
              <a:solidFill>
                <a:srgbClr val="000000"/>
              </a:solidFill>
              <a:latin typeface="Arial"/>
            </a:endParaRPr>
          </a:p>
          <a:p>
            <a:pPr marL="341280" indent="-336600">
              <a:lnSpc>
                <a:spcPct val="93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How to add metadata to a row?</a:t>
            </a:r>
            <a:endParaRPr b="0" lang="en-US" sz="4000" spc="-1" strike="noStrike">
              <a:solidFill>
                <a:srgbClr val="000000"/>
              </a:solidFill>
              <a:latin typeface="Arial"/>
            </a:endParaRPr>
          </a:p>
        </p:txBody>
      </p:sp>
      <p:sp>
        <p:nvSpPr>
          <p:cNvPr id="71"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600" spc="-1" strike="noStrike">
                <a:solidFill>
                  <a:srgbClr val="000000"/>
                </a:solidFill>
                <a:latin typeface="Calibri"/>
                <a:ea typeface="Droid Sans Fallback"/>
              </a:rPr>
              <a:t>Like timestamp, changer, row id, status etc etc?</a:t>
            </a:r>
            <a:endParaRPr b="0" lang="en-US" sz="36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6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600" spc="-1" strike="noStrike">
                <a:solidFill>
                  <a:srgbClr val="000000"/>
                </a:solidFill>
                <a:latin typeface="Calibri"/>
                <a:ea typeface="Droid Sans Fallback"/>
              </a:rPr>
              <a:t>Unpleasant answer: </a:t>
            </a:r>
            <a:r>
              <a:rPr b="1" lang="et-EE" sz="3600" spc="-1" strike="noStrike">
                <a:solidFill>
                  <a:srgbClr val="000000"/>
                </a:solidFill>
                <a:latin typeface="Calibri"/>
                <a:ea typeface="Droid Sans Fallback"/>
              </a:rPr>
              <a:t>reification</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How does </a:t>
            </a:r>
            <a:r>
              <a:rPr b="0" lang="et-EE" sz="4900" spc="-1" strike="noStrike">
                <a:solidFill>
                  <a:srgbClr val="2a6099"/>
                </a:solidFill>
                <a:latin typeface="Calibri"/>
                <a:ea typeface="Droid Sans Fallback"/>
              </a:rPr>
              <a:t>reification</a:t>
            </a:r>
            <a:r>
              <a:rPr b="0" lang="et-EE" sz="4900" spc="-1" strike="noStrike">
                <a:solidFill>
                  <a:srgbClr val="000000"/>
                </a:solidFill>
                <a:latin typeface="Calibri"/>
                <a:ea typeface="Droid Sans Fallback"/>
              </a:rPr>
              <a:t> work?</a:t>
            </a:r>
            <a:endParaRPr b="0" lang="en-US" sz="4900" spc="-1" strike="noStrike">
              <a:solidFill>
                <a:srgbClr val="000000"/>
              </a:solidFill>
              <a:latin typeface="Arial"/>
            </a:endParaRPr>
          </a:p>
        </p:txBody>
      </p:sp>
      <p:sp>
        <p:nvSpPr>
          <p:cNvPr id="73"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We hav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3200" spc="-1" strike="noStrike">
                <a:solidFill>
                  <a:srgbClr val="000000"/>
                </a:solidFill>
                <a:latin typeface="Calibri"/>
                <a:ea typeface="Droid Sans Fallback"/>
              </a:rPr>
              <a:t>personid:12      salary      20000</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Want to add timestamp and entering person?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he reification way</a:t>
            </a:r>
            <a:endParaRPr b="0" lang="en-US" sz="4900" spc="-1" strike="noStrike">
              <a:solidFill>
                <a:srgbClr val="000000"/>
              </a:solidFill>
              <a:latin typeface="Arial"/>
            </a:endParaRPr>
          </a:p>
        </p:txBody>
      </p:sp>
      <p:sp>
        <p:nvSpPr>
          <p:cNvPr id="75" name=""/>
          <p:cNvSpPr/>
          <p:nvPr/>
        </p:nvSpPr>
        <p:spPr>
          <a:xfrm>
            <a:off x="503280" y="1763640"/>
            <a:ext cx="9074160" cy="545472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2800" spc="-1" strike="noStrike">
                <a:solidFill>
                  <a:srgbClr val="000000"/>
                </a:solidFill>
                <a:latin typeface="Calibri"/>
                <a:ea typeface="Droid Sans Fallback"/>
              </a:rPr>
              <a:t>From</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personid:12            salary               2000     +   timestamp etc</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2800" spc="-1" strike="noStrike">
                <a:solidFill>
                  <a:srgbClr val="000000"/>
                </a:solidFill>
                <a:latin typeface="Calibri"/>
                <a:ea typeface="Droid Sans Fallback"/>
              </a:rPr>
              <a:t>To</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subject            personid:12</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predicate        salary</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object              2000</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timestamp      2009-10-20 13:45</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datarow:10001       modifier          personid:345                   </a:t>
            </a:r>
            <a:endParaRPr b="0" lang="en-US" sz="2800" spc="-1" strike="noStrike">
              <a:solidFill>
                <a:srgbClr val="000000"/>
              </a:solidFill>
              <a:latin typeface="Arial"/>
            </a:endParaRPr>
          </a:p>
          <a:p>
            <a:pPr marL="341280" indent="-336600">
              <a:lnSpc>
                <a:spcPct val="8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From the relational db ...</a:t>
            </a:r>
            <a:endParaRPr b="0" lang="en-US" sz="4900" spc="-1" strike="noStrike">
              <a:solidFill>
                <a:srgbClr val="000000"/>
              </a:solidFill>
              <a:latin typeface="Arial"/>
            </a:endParaRPr>
          </a:p>
        </p:txBody>
      </p:sp>
      <p:sp>
        <p:nvSpPr>
          <p:cNvPr id="77"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One row, N cols in the relational db</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First, get N rows of four cols in RDF</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Second, get (N*3)+X rows of four cols after reification</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N  </a:t>
            </a:r>
            <a:r>
              <a:rPr b="0" lang="et-EE" sz="2800" spc="-1" strike="noStrike">
                <a:solidFill>
                  <a:srgbClr val="000000"/>
                </a:solidFill>
                <a:latin typeface="Wingdings"/>
                <a:ea typeface="Wingdings"/>
              </a:rPr>
              <a:t></a:t>
            </a:r>
            <a:r>
              <a:rPr b="0" lang="et-EE" sz="2800" spc="-1" strike="noStrike">
                <a:solidFill>
                  <a:srgbClr val="000000"/>
                </a:solidFill>
                <a:latin typeface="Calibri"/>
                <a:ea typeface="Droid Sans Fallback"/>
              </a:rPr>
              <a:t>  12*N       (is 12 a correct number here??)</a:t>
            </a:r>
            <a:r>
              <a:rPr b="0" lang="et-EE" sz="3200" spc="-1" strike="noStrike">
                <a:solidFill>
                  <a:srgbClr val="000000"/>
                </a:solidFill>
                <a:latin typeface="Calibri"/>
                <a:ea typeface="Droid Sans Fallback"/>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79" name=""/>
          <p:cNvSpPr/>
          <p:nvPr/>
        </p:nvSpPr>
        <p:spPr>
          <a:xfrm>
            <a:off x="503280" y="1763640"/>
            <a:ext cx="9074160" cy="6275520"/>
          </a:xfrm>
          <a:prstGeom prst="rect">
            <a:avLst/>
          </a:prstGeom>
          <a:noFill/>
          <a:ln w="0">
            <a:noFill/>
          </a:ln>
        </p:spPr>
        <p:style>
          <a:lnRef idx="0"/>
          <a:fillRef idx="0"/>
          <a:effectRef idx="0"/>
          <a:fontRef idx="minor"/>
        </p:style>
        <p:txBody>
          <a:bodyPr lIns="99360" rIns="99360" tIns="51480" bIns="51480" anchor="t">
            <a:noAutofit/>
          </a:bodyPr>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 provides a </a:t>
            </a:r>
            <a:r>
              <a:rPr b="0" i="1" lang="en-US" sz="2800" spc="-1" strike="noStrike">
                <a:solidFill>
                  <a:srgbClr val="000000"/>
                </a:solidFill>
                <a:latin typeface="Calibri"/>
                <a:ea typeface="Droid Sans Fallback"/>
              </a:rPr>
              <a:t>container vocabulary</a:t>
            </a:r>
            <a:r>
              <a:rPr b="0" lang="en-US" sz="2800" spc="-1" strike="noStrike">
                <a:solidFill>
                  <a:srgbClr val="000000"/>
                </a:solidFill>
                <a:latin typeface="Calibri"/>
                <a:ea typeface="Droid Sans Fallback"/>
              </a:rPr>
              <a:t> consisting of three predefined types (together with some associated predefined properties). </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A </a:t>
            </a:r>
            <a:r>
              <a:rPr b="0" i="1" lang="en-US" sz="2800" spc="-1" strike="noStrike">
                <a:solidFill>
                  <a:srgbClr val="000000"/>
                </a:solidFill>
                <a:latin typeface="Calibri"/>
                <a:ea typeface="Droid Sans Fallback"/>
              </a:rPr>
              <a:t>container</a:t>
            </a:r>
            <a:r>
              <a:rPr b="0" lang="en-US" sz="2800" spc="-1" strike="noStrike">
                <a:solidFill>
                  <a:srgbClr val="000000"/>
                </a:solidFill>
                <a:latin typeface="Calibri"/>
                <a:ea typeface="Droid Sans Fallback"/>
              </a:rPr>
              <a:t> is a resource that contains things. The contained things are called </a:t>
            </a:r>
            <a:r>
              <a:rPr b="0" i="1" lang="en-US" sz="2800" spc="-1" strike="noStrike">
                <a:solidFill>
                  <a:srgbClr val="000000"/>
                </a:solidFill>
                <a:latin typeface="Calibri"/>
                <a:ea typeface="Droid Sans Fallback"/>
              </a:rPr>
              <a:t>members</a:t>
            </a:r>
            <a:r>
              <a:rPr b="0" lang="en-US" sz="2800" spc="-1" strike="noStrike">
                <a:solidFill>
                  <a:srgbClr val="000000"/>
                </a:solidFill>
                <a:latin typeface="Calibri"/>
                <a:ea typeface="Droid Sans Fallback"/>
              </a:rPr>
              <a:t>. The members of a container may be resources (including blank nodes) or literals. RDF defines three types of containers:</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Bag</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Seq</a:t>
            </a:r>
            <a:endParaRPr b="0" lang="en-US" sz="2800" spc="-1" strike="noStrike">
              <a:solidFill>
                <a:srgbClr val="000000"/>
              </a:solidFill>
              <a:latin typeface="Arial"/>
            </a:endParaRPr>
          </a:p>
          <a:p>
            <a:pPr marL="339840" indent="-33660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Alt</a:t>
            </a:r>
            <a:endParaRPr b="0" lang="en-US" sz="2800" spc="-1" strike="noStrike">
              <a:solidFill>
                <a:srgbClr val="000000"/>
              </a:solidFill>
              <a:latin typeface="Arial"/>
            </a:endParaRPr>
          </a:p>
          <a:p>
            <a:pPr marL="339840" indent="-336600">
              <a:lnSpc>
                <a:spcPct val="80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81"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Containers are mostly fak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Containers have no real semantics in RDF</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Container semantics would make queries very hard.</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local id-s</a:t>
            </a:r>
            <a:endParaRPr b="0" lang="en-US" sz="4900" spc="-1" strike="noStrike">
              <a:solidFill>
                <a:srgbClr val="000000"/>
              </a:solidFill>
              <a:latin typeface="Arial"/>
            </a:endParaRPr>
          </a:p>
        </p:txBody>
      </p:sp>
      <p:sp>
        <p:nvSpPr>
          <p:cNvPr id="83"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Different object id-s:</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Global URI-s. </a:t>
            </a:r>
            <a:endParaRPr b="0" lang="en-US" sz="3200" spc="-1" strike="noStrike">
              <a:solidFill>
                <a:srgbClr val="000000"/>
              </a:solidFill>
              <a:latin typeface="Arial"/>
            </a:endParaRPr>
          </a:p>
          <a:p>
            <a:pPr lvl="1" marL="738360" indent="-281160">
              <a:lnSpc>
                <a:spcPct val="93000"/>
              </a:lnSpc>
              <a:spcBef>
                <a:spcPts val="774"/>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hese are fine.</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Local “blank nodes”.  </a:t>
            </a:r>
            <a:endParaRPr b="0" lang="en-US" sz="3200" spc="-1" strike="noStrike">
              <a:solidFill>
                <a:srgbClr val="000000"/>
              </a:solidFill>
              <a:latin typeface="Arial"/>
            </a:endParaRPr>
          </a:p>
          <a:p>
            <a:pPr lvl="1" marL="738360" indent="-281160">
              <a:lnSpc>
                <a:spcPct val="93000"/>
              </a:lnSpc>
              <a:spcBef>
                <a:spcPts val="774"/>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heir semantics/use in the RDF spec is broken: creates unnecessary problems.</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5" name=""/>
          <p:cNvSpPr/>
          <p:nvPr/>
        </p:nvSpPr>
        <p:spPr>
          <a:xfrm>
            <a:off x="503280" y="1763640"/>
            <a:ext cx="9074160" cy="525456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How to keep predicate, subject, valuetype URI-s: </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wo main options:</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keep a separate table for unique strings</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use numeric string id-s in pred,subject,valuetype</a:t>
            </a:r>
            <a:endParaRPr b="0" lang="en-US" sz="3200" spc="-1" strike="noStrike">
              <a:solidFill>
                <a:srgbClr val="000000"/>
              </a:solidFill>
              <a:latin typeface="Arial"/>
            </a:endParaRPr>
          </a:p>
          <a:p>
            <a:pPr lvl="1" marL="743040" indent="-281160">
              <a:lnSpc>
                <a:spcPct val="93000"/>
              </a:lnSpc>
              <a:spcBef>
                <a:spcPts val="77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lvl="1" marL="743040" indent="-281160">
              <a:lnSpc>
                <a:spcPct val="93000"/>
              </a:lnSpc>
              <a:spcBef>
                <a:spcPts val="77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7"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lvl="1" marL="743040" indent="-281160">
              <a:lnSpc>
                <a:spcPct val="93000"/>
              </a:lnSpc>
              <a:spcBef>
                <a:spcPts val="774"/>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Storing value? Can be int, float, string, URI, ...</a:t>
            </a:r>
            <a:endParaRPr b="0" lang="en-US" sz="32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Several ways, none really pleasant:</a:t>
            </a:r>
            <a:endParaRPr b="0" lang="en-US" sz="32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Encode everything as a string</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Encode everything as a number</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t-EE" sz="3200" spc="-1" strike="noStrike">
                <a:solidFill>
                  <a:srgbClr val="000000"/>
                </a:solidFill>
                <a:latin typeface="Calibri"/>
                <a:ea typeface="Droid Sans Fallback"/>
              </a:rPr>
              <a:t>Use several columns for different (main) types</a:t>
            </a:r>
            <a:endParaRPr b="0" lang="en-US" sz="3200" spc="-1" strike="noStrike">
              <a:solidFill>
                <a:srgbClr val="000000"/>
              </a:solidFill>
              <a:latin typeface="Arial"/>
            </a:endParaRPr>
          </a:p>
          <a:p>
            <a:pPr marL="343080" indent="-338400">
              <a:lnSpc>
                <a:spcPct val="93000"/>
              </a:lnSpc>
              <a:spcBef>
                <a:spcPts val="887"/>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400" spc="-1" strike="noStrike">
              <a:solidFill>
                <a:srgbClr val="000000"/>
              </a:solidFill>
              <a:latin typeface="Arial"/>
            </a:endParaRPr>
          </a:p>
          <a:p>
            <a:pPr lvl="1" marL="743040" indent="-281160">
              <a:lnSpc>
                <a:spcPct val="93000"/>
              </a:lnSpc>
              <a:spcBef>
                <a:spcPts val="774"/>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Alternatives to relational databases</a:t>
            </a:r>
            <a:endParaRPr b="0" lang="en-US" sz="4000" spc="-1" strike="noStrike">
              <a:solidFill>
                <a:srgbClr val="000000"/>
              </a:solidFill>
              <a:latin typeface="Arial"/>
            </a:endParaRPr>
          </a:p>
        </p:txBody>
      </p:sp>
      <p:sp>
        <p:nvSpPr>
          <p:cNvPr id="52" name=""/>
          <p:cNvSpPr/>
          <p:nvPr/>
        </p:nvSpPr>
        <p:spPr>
          <a:xfrm>
            <a:off x="503280" y="1763640"/>
            <a:ext cx="9074160" cy="595008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 varied landscape of technologies,</a:t>
            </a: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part of which are under a NoSQL umbrella name:</a:t>
            </a: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Network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Graph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Document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Key-value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Object-relational mapping</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Main memory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XML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RDF, Sparql, semantic web</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600" spc="-1" strike="noStrike">
                <a:solidFill>
                  <a:srgbClr val="000000"/>
                </a:solidFill>
                <a:latin typeface="Calibri"/>
                <a:ea typeface="Droid Sans Fallback"/>
              </a:rPr>
              <a:t>Google Bigtable and MapReduce framework</a:t>
            </a:r>
            <a:endParaRPr b="0" lang="en-US" sz="26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t>
            </a: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a:p>
            <a:pPr marL="341280" indent="-336600">
              <a:lnSpc>
                <a:spcPct val="80000"/>
              </a:lnSpc>
              <a:spcBef>
                <a:spcPts val="825"/>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parql query language example</a:t>
            </a:r>
            <a:endParaRPr b="0" lang="en-US" sz="4900" spc="-1" strike="noStrike">
              <a:solidFill>
                <a:srgbClr val="000000"/>
              </a:solidFill>
              <a:latin typeface="Arial"/>
            </a:endParaRPr>
          </a:p>
        </p:txBody>
      </p:sp>
      <p:sp>
        <p:nvSpPr>
          <p:cNvPr id="89" name=""/>
          <p:cNvSpPr/>
          <p:nvPr/>
        </p:nvSpPr>
        <p:spPr>
          <a:xfrm>
            <a:off x="503280" y="1763640"/>
            <a:ext cx="9074160" cy="5038920"/>
          </a:xfrm>
          <a:prstGeom prst="rect">
            <a:avLst/>
          </a:prstGeom>
          <a:noFill/>
          <a:ln w="0">
            <a:noFill/>
          </a:ln>
        </p:spPr>
        <p:style>
          <a:lnRef idx="0"/>
          <a:fillRef idx="0"/>
          <a:effectRef idx="0"/>
          <a:fontRef idx="minor"/>
        </p:style>
        <p:txBody>
          <a:bodyPr lIns="99360" rIns="99360" tIns="51480" bIns="51480" anchor="t">
            <a:noAutofit/>
          </a:bodyPr>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PREFIX type: &lt;http://dbpedia.org/class/yago/&gt;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PREFIX prop: &lt;http://dbpedia.org/property/&gt;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SELECT ?country_name ?population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WHERE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country   a   type:LandlockedCountries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rdfs:label   ?country_name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rop:populationEstimate  ?population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FILTER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opulation &gt; 15000000 &amp;&amp;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langMatches(lang(?country_name), "EN")) . </a:t>
            </a:r>
            <a:endParaRPr b="0" lang="en-US" sz="2400" spc="-1" strike="noStrike">
              <a:solidFill>
                <a:srgbClr val="000000"/>
              </a:solidFill>
              <a:latin typeface="Arial"/>
            </a:endParaRPr>
          </a:p>
          <a:p>
            <a:pPr marL="338040" indent="-315720">
              <a:lnSpc>
                <a:spcPct val="93000"/>
              </a:lnSpc>
              <a:spcBef>
                <a:spcPts val="68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t-EE" sz="2400" spc="-1" strike="noStrike">
                <a:solidFill>
                  <a:srgbClr val="000000"/>
                </a:solidFill>
                <a:latin typeface="Calibri"/>
                <a:ea typeface="Droid Sans Fallback"/>
              </a:rPr>
              <a:t>} ORDER BY DESC(?population)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DFS</a:t>
            </a:r>
            <a:endParaRPr b="0" lang="en-US" sz="4800" spc="-1" strike="noStrike">
              <a:solidFill>
                <a:srgbClr val="000000"/>
              </a:solidFill>
              <a:latin typeface="Arial"/>
            </a:endParaRPr>
          </a:p>
        </p:txBody>
      </p:sp>
      <p:sp>
        <p:nvSpPr>
          <p:cNvPr id="91"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800" spc="-1" strike="noStrike">
                <a:solidFill>
                  <a:srgbClr val="000000"/>
                </a:solidFill>
                <a:latin typeface="Calibri"/>
                <a:ea typeface="SimSun"/>
              </a:rPr>
              <a:t>RDFS: </a:t>
            </a:r>
            <a:r>
              <a:rPr b="0" lang="et-EE" sz="2800" spc="-1" strike="noStrike">
                <a:solidFill>
                  <a:srgbClr val="c5000b"/>
                </a:solidFill>
                <a:latin typeface="Calibri"/>
                <a:ea typeface="SimSun"/>
              </a:rPr>
              <a:t>RDF Schema</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Three kinds of simple </a:t>
            </a:r>
            <a:r>
              <a:rPr b="1" lang="et-EE" sz="2800" spc="-1" strike="noStrike">
                <a:solidFill>
                  <a:srgbClr val="000000"/>
                </a:solidFill>
                <a:latin typeface="Calibri"/>
                <a:ea typeface="SimSun"/>
              </a:rPr>
              <a:t>taxonomy rules </a:t>
            </a:r>
            <a:r>
              <a:rPr b="0" lang="et-EE" sz="2800" spc="-1" strike="noStrike">
                <a:solidFill>
                  <a:srgbClr val="000000"/>
                </a:solidFill>
                <a:latin typeface="Calibri"/>
                <a:ea typeface="SimSun"/>
              </a:rPr>
              <a:t>added to RDF</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is a car, X is a vehic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profession, X is a perso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brother, value of the property is a</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person“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First (main) rule</a:t>
            </a:r>
            <a:endParaRPr b="0" lang="en-US" sz="4800" spc="-1" strike="noStrike">
              <a:solidFill>
                <a:srgbClr val="000000"/>
              </a:solidFill>
              <a:latin typeface="Arial"/>
            </a:endParaRPr>
          </a:p>
        </p:txBody>
      </p:sp>
      <p:sp>
        <p:nvSpPr>
          <p:cNvPr id="93"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MotorVehicle   rdf:type   rdfs:Clas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things:companyCar   rdf:type   ex:Va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Van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   ex:MotorVehicle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95440" y="326880"/>
            <a:ext cx="9072360" cy="126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Main rule</a:t>
            </a:r>
            <a:endParaRPr b="0" lang="en-US" sz="4800" spc="-1" strike="noStrike">
              <a:solidFill>
                <a:srgbClr val="000000"/>
              </a:solidFill>
              <a:latin typeface="Arial"/>
            </a:endParaRPr>
          </a:p>
        </p:txBody>
      </p:sp>
      <p:sp>
        <p:nvSpPr>
          <p:cNvPr id="95"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ame facts in the </a:t>
            </a:r>
            <a:r>
              <a:rPr b="0" lang="et-EE" sz="2800" spc="-1" strike="noStrike">
                <a:solidFill>
                  <a:srgbClr val="c5000b"/>
                </a:solidFill>
                <a:latin typeface="Calibri"/>
                <a:ea typeface="SimSun"/>
              </a:rPr>
              <a:t>predicate calculus notation</a:t>
            </a:r>
            <a:r>
              <a:rPr b="0" lang="et-EE" sz="2800" spc="-1" strike="noStrike">
                <a:solidFill>
                  <a:srgbClr val="000000"/>
                </a:solidFill>
                <a:latin typeface="Calibri"/>
                <a:ea typeface="SimSun"/>
              </a:rPr>
              <a:t>:</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MotorVehicle, rdfs:Clas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things:companyCar,ex:Van)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s:subClassOf(ex:Van, ex:MotorVehic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X,Y)  &amp;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Y,Z)  =&gt;  rdf:type(X,Z)</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cond rule</a:t>
            </a:r>
            <a:endParaRPr b="0" lang="en-US" sz="4800" spc="-1" strike="noStrike">
              <a:solidFill>
                <a:srgbClr val="000000"/>
              </a:solidFill>
              <a:latin typeface="Arial"/>
            </a:endParaRPr>
          </a:p>
        </p:txBody>
      </p:sp>
      <p:sp>
        <p:nvSpPr>
          <p:cNvPr id="97"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Person         rdf:type     rdfs:Clas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range</a:t>
            </a:r>
            <a:r>
              <a:rPr b="0" lang="et-EE" sz="2800" spc="-1" strike="noStrike">
                <a:solidFill>
                  <a:srgbClr val="000000"/>
                </a:solidFill>
                <a:latin typeface="Calibri"/>
                <a:ea typeface="SimSun"/>
              </a:rPr>
              <a:t>   ex:Perso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and the fact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c5000b"/>
                </a:solidFill>
                <a:latin typeface="Calibri"/>
                <a:ea typeface="SimSun"/>
              </a:rPr>
              <a:t>ex:person1 rdf:type  ex:Perso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99"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range</a:t>
            </a:r>
            <a:r>
              <a:rPr b="0" lang="et-EE" sz="2800" spc="-1" strike="noStrike">
                <a:solidFill>
                  <a:srgbClr val="000000"/>
                </a:solidFill>
                <a:latin typeface="Calibri"/>
                <a:ea typeface="SimSun"/>
              </a:rPr>
              <a:t>(Y,U)  =&gt;  rdf:type(X,U)</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Third rule</a:t>
            </a:r>
            <a:endParaRPr b="0" lang="en-US" sz="4800" spc="-1" strike="noStrike">
              <a:solidFill>
                <a:srgbClr val="000000"/>
              </a:solidFill>
              <a:latin typeface="Arial"/>
            </a:endParaRPr>
          </a:p>
        </p:txBody>
      </p:sp>
      <p:sp>
        <p:nvSpPr>
          <p:cNvPr id="101"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Book            rdf:type      rdfs:Clas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domain</a:t>
            </a:r>
            <a:r>
              <a:rPr b="0" lang="et-EE" sz="2800" spc="-1" strike="noStrike">
                <a:solidFill>
                  <a:srgbClr val="000000"/>
                </a:solidFill>
                <a:latin typeface="Calibri"/>
                <a:ea typeface="SimSun"/>
              </a:rPr>
              <a:t>   ex:Book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and the fact</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c5000b"/>
                </a:solidFill>
                <a:latin typeface="Calibri"/>
                <a:ea typeface="SimSun"/>
              </a:rPr>
              <a:t>ex:hamlet  rdf:type  ex:Book</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103"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domain</a:t>
            </a:r>
            <a:r>
              <a:rPr b="0" lang="et-EE" sz="2800" spc="-1" strike="noStrike">
                <a:solidFill>
                  <a:srgbClr val="000000"/>
                </a:solidFill>
                <a:latin typeface="Calibri"/>
                <a:ea typeface="SimSun"/>
              </a:rPr>
              <a:t>(Y,U)  =&gt;  rdf:type(Z,U)</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Additional encoding layer!</a:t>
            </a:r>
            <a:endParaRPr b="0" lang="en-US" sz="4800" spc="-1" strike="noStrike">
              <a:solidFill>
                <a:srgbClr val="000000"/>
              </a:solidFill>
              <a:latin typeface="Arial"/>
            </a:endParaRPr>
          </a:p>
        </p:txBody>
      </p:sp>
      <p:sp>
        <p:nvSpPr>
          <p:cNvPr id="105"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built-in rules assumed in rdf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type(X,Y)  &amp;  </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Y,Z)  =&gt;  rdf:type(X,Z)</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Y,U)  =&gt;   rdf:type(X,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Y,U)  =&gt;  rdf:type(Z,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c5000b"/>
                </a:solidFill>
                <a:latin typeface="Calibri"/>
                <a:ea typeface="SimSun"/>
              </a:rPr>
              <a:t>have to be encoded</a:t>
            </a:r>
            <a:r>
              <a:rPr b="0" lang="et-EE" sz="2800" spc="-1" strike="noStrike">
                <a:solidFill>
                  <a:srgbClr val="000000"/>
                </a:solidFill>
                <a:latin typeface="Calibri"/>
                <a:ea typeface="SimSun"/>
              </a:rPr>
              <a:t> in classical 1st order logic a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X,rdf:type,Y)  &amp;  rdf(Y,</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Z)  =&gt;  rdf(X,rdf:type,Z)</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U)  =&gt;   rdf(X,rdf:type,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U)  =&gt;  rdf(Z,rdf:type,U)</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a:t>
            </a:r>
            <a:endParaRPr b="0" lang="en-US" sz="4800" spc="-1" strike="noStrike">
              <a:solidFill>
                <a:srgbClr val="000000"/>
              </a:solidFill>
              <a:latin typeface="Arial"/>
            </a:endParaRPr>
          </a:p>
        </p:txBody>
      </p:sp>
      <p:sp>
        <p:nvSpPr>
          <p:cNvPr id="107"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Fact</a:t>
            </a:r>
            <a:r>
              <a:rPr b="0" lang="et-EE" sz="2800" spc="-1" strike="noStrike">
                <a:solidFill>
                  <a:srgbClr val="000000"/>
                </a:solidFill>
                <a:latin typeface="Calibri"/>
                <a:ea typeface="SimSun"/>
              </a:rPr>
              <a:t>: </a:t>
            </a:r>
            <a:r>
              <a:rPr b="1" lang="et-EE" sz="2800" spc="-1" strike="noStrike">
                <a:solidFill>
                  <a:srgbClr val="000000"/>
                </a:solidFill>
                <a:latin typeface="Calibri"/>
                <a:ea typeface="SimSun"/>
              </a:rPr>
              <a:t>http://xx#121   ex:eesnimi    "Jaa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Metainfo about the fact:</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timestamp: 10jaan2008,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sisestaja:peeter,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aldusvaarsus:0.9</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ample encoded as triples (invent object "13"):</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object</a:t>
            </a:r>
            <a:r>
              <a:rPr b="0" lang="et-EE" sz="2800" spc="-1" strike="noStrike">
                <a:solidFill>
                  <a:srgbClr val="000000"/>
                </a:solidFill>
                <a:latin typeface="Calibri"/>
                <a:ea typeface="SimSun"/>
              </a:rPr>
              <a:t>     http://xx#121</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predicate</a:t>
            </a:r>
            <a:r>
              <a:rPr b="0" lang="et-EE" sz="2800" spc="-1" strike="noStrike">
                <a:solidFill>
                  <a:srgbClr val="000000"/>
                </a:solidFill>
                <a:latin typeface="Calibri"/>
                <a:ea typeface="SimSun"/>
              </a:rPr>
              <a:t>  ex:eesnimi</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subject</a:t>
            </a:r>
            <a:r>
              <a:rPr b="0" lang="et-EE" sz="2800" spc="-1" strike="noStrike">
                <a:solidFill>
                  <a:srgbClr val="000000"/>
                </a:solidFill>
                <a:latin typeface="Calibri"/>
                <a:ea typeface="SimSun"/>
              </a:rPr>
              <a:t>    "Jaan"</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ex:timestamp   10jaan2008</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13  sisestaja      peeter</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riplets: an obvious idea to</a:t>
            </a:r>
            <a:endParaRPr b="0" lang="en-US" sz="49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Implement schemaless databases</a:t>
            </a:r>
            <a:endParaRPr b="0" lang="en-US" sz="4900" spc="-1" strike="noStrike">
              <a:solidFill>
                <a:srgbClr val="000000"/>
              </a:solidFill>
              <a:latin typeface="Arial"/>
            </a:endParaRPr>
          </a:p>
        </p:txBody>
      </p:sp>
      <p:sp>
        <p:nvSpPr>
          <p:cNvPr id="54"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a:lnSpc>
                <a:spcPct val="93000"/>
              </a:lnSpc>
              <a:spcBef>
                <a:spcPts val="43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Each row with N cols is represented as N rows of three columns like    </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2a6099"/>
                </a:solidFill>
                <a:latin typeface="Calibri"/>
                <a:ea typeface="Droid Sans Fallback"/>
              </a:rPr>
              <a:t>client_1    name      „John Brown“</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           </a:t>
            </a:r>
            <a:r>
              <a:rPr b="0" lang="et-EE" sz="2800" spc="-1" strike="noStrike">
                <a:solidFill>
                  <a:srgbClr val="2a6099"/>
                </a:solidFill>
                <a:latin typeface="Calibri"/>
                <a:ea typeface="Droid Sans Fallback"/>
              </a:rPr>
              <a:t>client_1    balance   200</a:t>
            </a:r>
            <a:r>
              <a:rPr b="0" lang="et-EE" sz="2800" spc="-1" strike="noStrike">
                <a:solidFill>
                  <a:srgbClr val="000000"/>
                </a:solidFill>
                <a:latin typeface="Calibri"/>
                <a:ea typeface="Droid Sans Fallback"/>
              </a:rPr>
              <a:t> </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olumns  are  called sometimes as</a:t>
            </a:r>
            <a:endParaRPr b="0" lang="en-US" sz="28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Row/Object id        Column name             Value</a:t>
            </a:r>
            <a:endParaRPr b="0" lang="en-US" sz="28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Object                      Property                      Value</a:t>
            </a:r>
            <a:endParaRPr b="0" lang="en-US" sz="28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2800" spc="-1" strike="noStrike">
                <a:solidFill>
                  <a:srgbClr val="2a6099"/>
                </a:solidFill>
                <a:latin typeface="Calibri"/>
                <a:ea typeface="Droid Sans Fallback"/>
              </a:rPr>
              <a:t>Subject                     Predicate                    Object</a:t>
            </a:r>
            <a:endParaRPr b="0" lang="en-US" sz="28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 rule</a:t>
            </a:r>
            <a:endParaRPr b="0" lang="en-US" sz="4800" spc="-1" strike="noStrike">
              <a:solidFill>
                <a:srgbClr val="000000"/>
              </a:solidFill>
              <a:latin typeface="Arial"/>
            </a:endParaRPr>
          </a:p>
        </p:txBody>
      </p:sp>
      <p:sp>
        <p:nvSpPr>
          <p:cNvPr id="109"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built-in rule assumed in rdf:</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subject,Y) &amp; </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predicate,Z) &amp; </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object,U)</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lt;=&gt;</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Y,Z,U).</a:t>
            </a:r>
            <a:endParaRPr b="0" lang="en-US" sz="32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1"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ff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ff0000"/>
                </a:solidFill>
                <a:latin typeface="Calibri"/>
                <a:ea typeface="SimSun"/>
              </a:rPr>
              <a:t>cardinality</a:t>
            </a:r>
            <a:r>
              <a:rPr b="0" lang="et-EE" sz="2400" spc="-1" strike="noStrike">
                <a:solidFill>
                  <a:srgbClr val="000000"/>
                </a:solidFill>
                <a:latin typeface="Calibri"/>
                <a:ea typeface="SimSun"/>
              </a:rPr>
              <a:t> constraints on properties, e.g., that a Person has exactly one biological father.</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a given property (such as ex:hasAncestor) is </a:t>
            </a:r>
            <a:r>
              <a:rPr b="0" lang="et-EE" sz="2400" spc="-1" strike="noStrike">
                <a:solidFill>
                  <a:srgbClr val="ff0000"/>
                </a:solidFill>
                <a:latin typeface="Calibri"/>
                <a:ea typeface="SimSun"/>
              </a:rPr>
              <a:t>transitive</a:t>
            </a:r>
            <a:r>
              <a:rPr b="0" lang="et-EE" sz="2400" spc="-1" strike="noStrike">
                <a:solidFill>
                  <a:srgbClr val="000000"/>
                </a:solidFill>
                <a:latin typeface="Calibri"/>
                <a:ea typeface="SimSun"/>
              </a:rPr>
              <a:t>, e.g., that if A ex:hasAncestor B, and B ex:hasAncestor C, then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 ex:hasAncestor C.</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a given property is a </a:t>
            </a:r>
            <a:r>
              <a:rPr b="0" lang="et-EE" sz="2400" spc="-1" strike="noStrike">
                <a:solidFill>
                  <a:srgbClr val="ff0000"/>
                </a:solidFill>
                <a:latin typeface="Calibri"/>
                <a:ea typeface="SimSun"/>
              </a:rPr>
              <a:t>unique identifier</a:t>
            </a:r>
            <a:r>
              <a:rPr b="0" lang="et-EE" sz="2400" spc="-1" strike="noStrike">
                <a:solidFill>
                  <a:srgbClr val="000000"/>
                </a:solidFill>
                <a:latin typeface="Calibri"/>
                <a:ea typeface="SimSun"/>
              </a:rPr>
              <a:t> (or key) for instances of a particular class.</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two different classes (having different URIrefs) actually </a:t>
            </a:r>
            <a:r>
              <a:rPr b="0" lang="et-EE" sz="2400" spc="-1" strike="noStrike">
                <a:solidFill>
                  <a:srgbClr val="ff0000"/>
                </a:solidFill>
                <a:latin typeface="Calibri"/>
                <a:ea typeface="SimSun"/>
              </a:rPr>
              <a:t>represent the same class</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pecifying that two different instances (having different URIrefs) actually </a:t>
            </a:r>
            <a:r>
              <a:rPr b="0" lang="et-EE" sz="2400" spc="-1" strike="noStrike">
                <a:solidFill>
                  <a:srgbClr val="ff0000"/>
                </a:solidFill>
                <a:latin typeface="Calibri"/>
                <a:ea typeface="SimSun"/>
              </a:rPr>
              <a:t>represent the same individual</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7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3" name=""/>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specifying </a:t>
            </a:r>
            <a:r>
              <a:rPr b="0" lang="et-EE" sz="2800" spc="-1" strike="noStrike">
                <a:solidFill>
                  <a:srgbClr val="ff0000"/>
                </a:solidFill>
                <a:latin typeface="Calibri"/>
                <a:ea typeface="SimSun"/>
              </a:rPr>
              <a:t>constraints on the range or cardinality of a property</a:t>
            </a: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that depend on </a:t>
            </a:r>
            <a:r>
              <a:rPr b="0" lang="et-EE" sz="2800" spc="-1" strike="noStrike">
                <a:solidFill>
                  <a:srgbClr val="000000"/>
                </a:solidFill>
                <a:latin typeface="Calibri"/>
                <a:ea typeface="SimSun"/>
              </a:rPr>
              <a:t>the class of resource to which a property is applied, e.g., being able to say that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for a soccer team the ex:hasPlayers property has 11 value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for a basketball team the ex:hasPlayers property has 5 value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the ability to describe new classes in terms of</a:t>
            </a:r>
            <a:r>
              <a:rPr b="0" lang="et-EE" sz="2800" spc="-1" strike="noStrike">
                <a:solidFill>
                  <a:srgbClr val="ff0000"/>
                </a:solidFill>
                <a:latin typeface="Calibri"/>
                <a:ea typeface="SimSun"/>
              </a:rPr>
              <a:t> combinations (e.g., unions and intersections) </a:t>
            </a:r>
            <a:r>
              <a:rPr b="0" lang="et-EE" sz="2800" spc="-1" strike="noStrike">
                <a:solidFill>
                  <a:srgbClr val="000000"/>
                </a:solidFill>
                <a:latin typeface="Calibri"/>
                <a:ea typeface="SimSun"/>
              </a:rPr>
              <a:t>of other classes, or to say that two classes are disjoint (i.e., that no resource is an instance of both classe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Ways to extend rdfs</a:t>
            </a:r>
            <a:endParaRPr b="0" lang="en-US" sz="4800" spc="-1" strike="noStrike">
              <a:solidFill>
                <a:srgbClr val="000000"/>
              </a:solidFill>
              <a:latin typeface="Arial"/>
            </a:endParaRPr>
          </a:p>
        </p:txBody>
      </p:sp>
      <p:sp>
        <p:nvSpPr>
          <p:cNvPr id="115"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Two main approaches:</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traditional rules. </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lvl="1" marL="739800" indent="-282600">
              <a:lnSpc>
                <a:spcPct val="80000"/>
              </a:lnSpc>
              <a:spcBef>
                <a:spcPts val="224"/>
              </a:spcBef>
              <a:buClr>
                <a:srgbClr val="000000"/>
              </a:buClr>
              <a:buFont typeface="Times New Roman"/>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One of the popular options: </a:t>
            </a:r>
            <a:endParaRPr b="0" lang="en-US" sz="2800" spc="-1" strike="noStrike">
              <a:solidFill>
                <a:srgbClr val="000000"/>
              </a:solidFill>
              <a:latin typeface="Arial"/>
            </a:endParaRPr>
          </a:p>
          <a:p>
            <a:pPr lvl="1" marL="741240" indent="-2826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IF</a:t>
            </a:r>
            <a:r>
              <a:rPr b="0" lang="et-EE" sz="2800" spc="-1" strike="noStrike">
                <a:solidFill>
                  <a:srgbClr val="000000"/>
                </a:solidFill>
                <a:latin typeface="Calibri"/>
                <a:ea typeface="SimSun"/>
              </a:rPr>
              <a:t> (Rule Interchange Format).</a:t>
            </a:r>
            <a:endParaRPr b="0" lang="en-US" sz="2800" spc="-1" strike="noStrike">
              <a:solidFill>
                <a:srgbClr val="000000"/>
              </a:solidFill>
              <a:latin typeface="Arial"/>
            </a:endParaRPr>
          </a:p>
          <a:p>
            <a:pPr lvl="1" marL="739800" indent="-282600">
              <a:lnSpc>
                <a:spcPct val="80000"/>
              </a:lnSpc>
              <a:spcBef>
                <a:spcPts val="224"/>
              </a:spcBef>
              <a:buClr>
                <a:srgbClr val="000000"/>
              </a:buClr>
              <a:buFont typeface="Times New Roman"/>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Older favorite: </a:t>
            </a:r>
            <a:endParaRPr b="0" lang="en-US" sz="2800" spc="-1" strike="noStrike">
              <a:solidFill>
                <a:srgbClr val="000000"/>
              </a:solidFill>
              <a:latin typeface="Arial"/>
            </a:endParaRPr>
          </a:p>
          <a:p>
            <a:pPr lvl="1" marL="741240" indent="-2826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uleML</a:t>
            </a:r>
            <a:r>
              <a:rPr b="0" lang="et-EE" sz="2800" spc="-1" strike="noStrike">
                <a:solidFill>
                  <a:srgbClr val="000000"/>
                </a:solidFill>
                <a:latin typeface="Calibri"/>
                <a:ea typeface="SimSun"/>
              </a:rPr>
              <a:t> (Rule Meta-Language)</a:t>
            </a:r>
            <a:endParaRPr b="0" lang="en-US" sz="2800" spc="-1" strike="noStrike">
              <a:solidFill>
                <a:srgbClr val="000000"/>
              </a:solidFill>
              <a:latin typeface="Arial"/>
            </a:endParaRPr>
          </a:p>
          <a:p>
            <a:pPr lvl="1" marL="739800" indent="-282600">
              <a:lnSpc>
                <a:spcPct val="80000"/>
              </a:lnSpc>
              <a:spcBef>
                <a:spcPts val="224"/>
              </a:spcBef>
              <a:buClr>
                <a:srgbClr val="000000"/>
              </a:buClr>
              <a:buFont typeface="Times New Roman"/>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A complex exotic standard:</a:t>
            </a:r>
            <a:endParaRPr b="0" lang="en-US" sz="2800" spc="-1" strike="noStrike">
              <a:solidFill>
                <a:srgbClr val="000000"/>
              </a:solidFill>
              <a:latin typeface="Arial"/>
            </a:endParaRPr>
          </a:p>
          <a:p>
            <a:pPr lvl="1" marL="741240" indent="-2826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CL</a:t>
            </a:r>
            <a:r>
              <a:rPr b="0" lang="et-EE" sz="2800" spc="-1" strike="noStrike">
                <a:solidFill>
                  <a:srgbClr val="000000"/>
                </a:solidFill>
                <a:latin typeface="Calibri"/>
                <a:ea typeface="SimSun"/>
              </a:rPr>
              <a:t> (Common Logic)</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80000"/>
              </a:lnSpc>
              <a:spcBef>
                <a:spcPts val="224"/>
              </a:spcBef>
              <a:buClr>
                <a:srgbClr val="000000"/>
              </a:buClr>
              <a:buFont typeface="Wingdings" charset="2"/>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a specialised description-logic based languag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OWL</a:t>
            </a:r>
            <a:r>
              <a:rPr b="0" lang="et-EE" sz="2800" spc="-1" strike="noStrike">
                <a:solidFill>
                  <a:srgbClr val="000000"/>
                </a:solidFill>
                <a:latin typeface="Calibri"/>
                <a:ea typeface="SimSun"/>
              </a:rPr>
              <a:t> (Web Ontology Language)</a:t>
            </a:r>
            <a:endParaRPr b="0" lang="en-US" sz="28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a:t>
            </a:r>
            <a:endParaRPr b="0" lang="en-US" sz="4800" spc="-1" strike="noStrike">
              <a:solidFill>
                <a:srgbClr val="000000"/>
              </a:solidFill>
              <a:latin typeface="Arial"/>
            </a:endParaRPr>
          </a:p>
        </p:txBody>
      </p:sp>
      <p:sp>
        <p:nvSpPr>
          <p:cNvPr id="117"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Started ca 2001. Promoted by Berners-Lee and W3C.</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What is i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Google:</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a proposed development of the World Wide Web in which data in web pages is structured and tagged in such a way that it can be read directly by computers.</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the Semantic Web could usher in a golden age of information access„</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Wiki:</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Semantic Web is an extension of the World Wide Web through standards by the World Wide Web Consortium (W3C). The standards promote common data formats and exchange protocols on the Web, most fundamentally the Resource Description Framework (RDF).</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68360" y="274680"/>
            <a:ext cx="9070920" cy="1260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 hiearchy</a:t>
            </a:r>
            <a:endParaRPr b="0" lang="en-US" sz="4800" spc="-1" strike="noStrike">
              <a:solidFill>
                <a:srgbClr val="000000"/>
              </a:solidFill>
              <a:latin typeface="Arial"/>
            </a:endParaRPr>
          </a:p>
        </p:txBody>
      </p:sp>
      <p:sp>
        <p:nvSpPr>
          <p:cNvPr id="119"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pic>
        <p:nvPicPr>
          <p:cNvPr id="120" name="" descr=""/>
          <p:cNvPicPr/>
          <p:nvPr/>
        </p:nvPicPr>
        <p:blipFill>
          <a:blip r:embed="rId1"/>
          <a:stretch/>
        </p:blipFill>
        <p:spPr>
          <a:xfrm>
            <a:off x="2297160" y="1541520"/>
            <a:ext cx="5334120" cy="533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20640" y="-182520"/>
            <a:ext cx="9107640" cy="2257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3600" spc="-1" strike="noStrike">
                <a:solidFill>
                  <a:srgbClr val="000000"/>
                </a:solidFill>
                <a:latin typeface="Calibri"/>
                <a:ea typeface="SimSun"/>
              </a:rPr>
              <a:t>OWL is a hierarchy of specialized logical languages on top of RDF and RDFS</a:t>
            </a:r>
            <a:endParaRPr b="0" lang="en-US" sz="3600" spc="-1" strike="noStrike">
              <a:solidFill>
                <a:srgbClr val="000000"/>
              </a:solidFill>
              <a:latin typeface="Arial"/>
            </a:endParaRPr>
          </a:p>
        </p:txBody>
      </p:sp>
      <p:sp>
        <p:nvSpPr>
          <p:cNvPr id="122" name=""/>
          <p:cNvSpPr/>
          <p:nvPr/>
        </p:nvSpPr>
        <p:spPr>
          <a:xfrm>
            <a:off x="595440" y="2332080"/>
            <a:ext cx="9072360" cy="444168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pic>
        <p:nvPicPr>
          <p:cNvPr id="123" name="" descr=""/>
          <p:cNvPicPr/>
          <p:nvPr/>
        </p:nvPicPr>
        <p:blipFill>
          <a:blip r:embed="rId1"/>
          <a:stretch/>
        </p:blipFill>
        <p:spPr>
          <a:xfrm>
            <a:off x="835200" y="1614600"/>
            <a:ext cx="8410320" cy="5945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much practical success, though</a:t>
            </a:r>
            <a:endParaRPr b="0" lang="en-US" sz="4800" spc="-1" strike="noStrike">
              <a:solidFill>
                <a:srgbClr val="000000"/>
              </a:solidFill>
              <a:latin typeface="Arial"/>
            </a:endParaRPr>
          </a:p>
        </p:txBody>
      </p:sp>
      <p:sp>
        <p:nvSpPr>
          <p:cNvPr id="125"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n case you don't want to wade through the waffle, the summary is that</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re were roughly four phases of Semantic Web development starting</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with the eponymous golden age: Semantic Web (2001-2005), Linked Data</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2006-2010), JSON-LD (2010-2014), and now the Data Activity (2015-).</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biggest tangible results are Schema.org in conjunction with</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JSON-LD for SEO, Dbpedia, a few tacky database products, and very</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loosely the API economy.</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Continued ...</a:t>
            </a:r>
            <a:endParaRPr b="0" lang="en-US" sz="4800" spc="-1" strike="noStrike">
              <a:solidFill>
                <a:srgbClr val="000000"/>
              </a:solidFill>
              <a:latin typeface="Arial"/>
            </a:endParaRPr>
          </a:p>
        </p:txBody>
      </p:sp>
      <p:sp>
        <p:nvSpPr>
          <p:cNvPr id="127" name=""/>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s I</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ay, the Semantic Web was originally the conception of graphs instea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f trees, with global symbols, published in an open and decentralis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ystem.</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main problem seems not to have been the proliferation of the</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emantic junk such as RDF/XML and SPARQL, as is sometimes </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rgu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references below), but rather that the Web side did not provide an</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pen and decentralised system in which to host the Semantic side.</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ngoing efforts are being made to rectify that, but there are no</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promising solutions in that domain and so many of the Semantic Web</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deas will remain dormant.</a:t>
            </a: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80000"/>
              </a:lnSpc>
              <a:spcBef>
                <a:spcPts val="2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imilar to key-value</a:t>
            </a:r>
            <a:endParaRPr b="0" lang="en-US" sz="4900" spc="-1" strike="noStrike">
              <a:solidFill>
                <a:srgbClr val="000000"/>
              </a:solidFill>
              <a:latin typeface="Arial"/>
            </a:endParaRPr>
          </a:p>
        </p:txBody>
      </p:sp>
      <p:sp>
        <p:nvSpPr>
          <p:cNvPr id="56" name=""/>
          <p:cNvSpPr/>
          <p:nvPr/>
        </p:nvSpPr>
        <p:spPr>
          <a:xfrm>
            <a:off x="492120" y="1722600"/>
            <a:ext cx="9074160" cy="498924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2a6099"/>
                </a:solidFill>
                <a:latin typeface="Calibri"/>
                <a:ea typeface="Droid Sans Fallback"/>
              </a:rPr>
              <a:t>     </a:t>
            </a:r>
            <a:r>
              <a:rPr b="0" lang="et-EE" sz="3200" spc="-1" strike="noStrike">
                <a:solidFill>
                  <a:srgbClr val="2a6099"/>
                </a:solidFill>
                <a:latin typeface="Calibri"/>
                <a:ea typeface="Droid Sans Fallback"/>
              </a:rPr>
              <a:t>Object             Property            Valu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can be combined to</a:t>
            </a:r>
            <a:r>
              <a:rPr b="1"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a key-valu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          </a:t>
            </a:r>
            <a:r>
              <a:rPr b="0" lang="et-EE" sz="3200" spc="-1" strike="noStrike">
                <a:solidFill>
                  <a:srgbClr val="2a6099"/>
                </a:solidFill>
                <a:latin typeface="Calibri"/>
                <a:ea typeface="Droid Sans Fallback"/>
              </a:rPr>
              <a:t>Object:Property                   Valu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hat do we lose with the key-value representation?</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Schema-less is often inevitable</a:t>
            </a:r>
            <a:endParaRPr b="0" lang="en-US" sz="4000" spc="-1" strike="noStrike">
              <a:solidFill>
                <a:srgbClr val="000000"/>
              </a:solidFill>
              <a:latin typeface="Arial"/>
            </a:endParaRPr>
          </a:p>
        </p:txBody>
      </p:sp>
      <p:sp>
        <p:nvSpPr>
          <p:cNvPr id="58"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Read data from numerous sources,  aggregate in our own database:</a:t>
            </a:r>
            <a:endParaRPr b="0" lang="en-US" sz="32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e have no control over foreign data</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ur understanding of foreign data changes</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ur data sources chang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There is one „schemaless“ standard, </a:t>
            </a:r>
            <a:endParaRPr b="0" lang="en-US" sz="4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but beware</a:t>
            </a:r>
            <a:endParaRPr b="0" lang="en-US" sz="4000" spc="-1" strike="noStrike">
              <a:solidFill>
                <a:srgbClr val="000000"/>
              </a:solidFill>
              <a:latin typeface="Arial"/>
            </a:endParaRPr>
          </a:p>
        </p:txBody>
      </p:sp>
      <p:sp>
        <p:nvSpPr>
          <p:cNvPr id="60"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There is a wide range of schemaless databases, but most of them are basically API-s or have proprietary query languages: no real standards.</a:t>
            </a:r>
            <a:endParaRPr b="0" lang="en-US" sz="28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However, there is one standard </a:t>
            </a:r>
            <a:r>
              <a:rPr b="1" lang="et-EE" sz="2800" spc="-1" strike="noStrike">
                <a:solidFill>
                  <a:srgbClr val="000000"/>
                </a:solidFill>
                <a:latin typeface="Calibri"/>
                <a:ea typeface="Droid Sans Fallback"/>
              </a:rPr>
              <a:t>- RDF (resource description framework) </a:t>
            </a:r>
            <a:r>
              <a:rPr b="0" lang="et-EE" sz="2800" spc="-1" strike="noStrike">
                <a:solidFill>
                  <a:srgbClr val="000000"/>
                </a:solidFill>
                <a:latin typeface="Calibri"/>
                <a:ea typeface="Droid Sans Fallback"/>
              </a:rPr>
              <a:t>– which is not really loved.</a:t>
            </a:r>
            <a:endParaRPr b="0" lang="en-US" sz="2800" spc="-1" strike="noStrike">
              <a:solidFill>
                <a:srgbClr val="000000"/>
              </a:solidFill>
              <a:latin typeface="Arial"/>
            </a:endParaRPr>
          </a:p>
          <a:p>
            <a:pPr marL="343080" indent="-33840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eveloped and pushed by W3C</a:t>
            </a: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Cornerstone of the semantic web project</a:t>
            </a: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Large number of systems supporting</a:t>
            </a:r>
            <a:endParaRPr b="0" lang="en-US" sz="28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A lot of tools</a:t>
            </a:r>
            <a:endParaRPr b="0" lang="en-US" sz="2800" spc="-1" strike="noStrike">
              <a:solidFill>
                <a:srgbClr val="000000"/>
              </a:solidFill>
              <a:latin typeface="Arial"/>
            </a:endParaRPr>
          </a:p>
        </p:txBody>
      </p:sp>
      <p:pic>
        <p:nvPicPr>
          <p:cNvPr id="61" name="" descr=""/>
          <p:cNvPicPr/>
          <p:nvPr/>
        </p:nvPicPr>
        <p:blipFill>
          <a:blip r:embed="rId1"/>
          <a:stretch/>
        </p:blipFill>
        <p:spPr>
          <a:xfrm>
            <a:off x="8001000" y="5511960"/>
            <a:ext cx="1658880" cy="177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triple not really a triple </a:t>
            </a:r>
            <a:endParaRPr b="0" lang="en-US" sz="4900" spc="-1" strike="noStrike">
              <a:solidFill>
                <a:srgbClr val="000000"/>
              </a:solidFill>
              <a:latin typeface="Arial"/>
            </a:endParaRPr>
          </a:p>
        </p:txBody>
      </p:sp>
      <p:sp>
        <p:nvSpPr>
          <p:cNvPr id="63"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000000"/>
                </a:solidFill>
                <a:latin typeface="Calibri"/>
                <a:ea typeface="Droid Sans Fallback"/>
              </a:rPr>
              <a:t>Value       </a:t>
            </a:r>
            <a:r>
              <a:rPr b="1" lang="et-EE" sz="3200" spc="-1" strike="noStrike">
                <a:solidFill>
                  <a:srgbClr val="2a6099"/>
                </a:solidFill>
                <a:latin typeface="Calibri"/>
                <a:ea typeface="Droid Sans Fallback"/>
              </a:rPr>
              <a:t>Valuetyp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With </a:t>
            </a:r>
            <a:r>
              <a:rPr b="0" lang="et-EE" sz="3200" spc="-1" strike="noStrike">
                <a:solidFill>
                  <a:srgbClr val="2a6099"/>
                </a:solidFill>
                <a:latin typeface="Calibri"/>
                <a:ea typeface="Droid Sans Fallback"/>
              </a:rPr>
              <a:t>valuetype</a:t>
            </a:r>
            <a:r>
              <a:rPr b="0" lang="et-EE" sz="3200" spc="-1" strike="noStrike">
                <a:solidFill>
                  <a:srgbClr val="000000"/>
                </a:solidFill>
                <a:latin typeface="Calibri"/>
                <a:ea typeface="Droid Sans Fallback"/>
              </a:rPr>
              <a:t> normally being either:</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ne of xml schema datatypes</a:t>
            </a:r>
            <a:endParaRPr b="0" lang="en-US" sz="32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Global id: URI</a:t>
            </a:r>
            <a:endParaRPr b="0" lang="en-US" sz="3200" spc="-1" strike="noStrike">
              <a:solidFill>
                <a:srgbClr val="000000"/>
              </a:solidFill>
              <a:latin typeface="Arial"/>
            </a:endParaRPr>
          </a:p>
          <a:p>
            <a:pPr marL="339840" indent="-33840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Local id</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some restrictions</a:t>
            </a:r>
            <a:endParaRPr b="0" lang="en-US" sz="4900" spc="-1" strike="noStrike">
              <a:solidFill>
                <a:srgbClr val="000000"/>
              </a:solidFill>
              <a:latin typeface="Arial"/>
            </a:endParaRPr>
          </a:p>
        </p:txBody>
      </p:sp>
      <p:sp>
        <p:nvSpPr>
          <p:cNvPr id="65"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2a6099"/>
                </a:solidFill>
                <a:latin typeface="Calibri"/>
                <a:ea typeface="Droid Sans Fallback"/>
              </a:rPr>
              <a:t>Value</a:t>
            </a:r>
            <a:r>
              <a:rPr b="1"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     Valuetyp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Object, Property, Valuetype: URI-s</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t-EE" sz="3200" spc="-1" strike="noStrike">
                <a:solidFill>
                  <a:srgbClr val="2a6099"/>
                </a:solidFill>
                <a:latin typeface="Calibri"/>
                <a:ea typeface="Droid Sans Fallback"/>
              </a:rPr>
              <a:t>Value</a:t>
            </a:r>
            <a:r>
              <a:rPr b="0" lang="et-EE" sz="3200" spc="-1" strike="noStrike">
                <a:solidFill>
                  <a:srgbClr val="000000"/>
                </a:solidFill>
                <a:latin typeface="Calibri"/>
                <a:ea typeface="Droid Sans Fallback"/>
              </a:rPr>
              <a:t>: URI or literal value</a:t>
            </a:r>
            <a:endParaRPr b="0" lang="en-US" sz="32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660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Many representation syntaxes</a:t>
            </a:r>
            <a:endParaRPr b="0" lang="en-US" sz="4000" spc="-1" strike="noStrike">
              <a:solidFill>
                <a:srgbClr val="000000"/>
              </a:solidFill>
              <a:latin typeface="Arial"/>
            </a:endParaRPr>
          </a:p>
        </p:txBody>
      </p:sp>
      <p:sp>
        <p:nvSpPr>
          <p:cNvPr id="67" name=""/>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804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RDF/XML</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RDFa</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N3</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N-triples</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Turtle</a:t>
            </a:r>
            <a:endParaRPr b="0" lang="en-US" sz="3200" spc="-1" strike="noStrike">
              <a:solidFill>
                <a:srgbClr val="000000"/>
              </a:solidFill>
              <a:latin typeface="Arial"/>
            </a:endParaRPr>
          </a:p>
          <a:p>
            <a:pPr marL="339840" indent="-339840">
              <a:lnSpc>
                <a:spcPct val="93000"/>
              </a:lnSpc>
              <a:spcBef>
                <a:spcPts val="887"/>
              </a:spcBef>
              <a:buClr>
                <a:srgbClr val="000000"/>
              </a:buClr>
              <a:buFont typeface="Arial"/>
              <a:buChar char="•"/>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t-EE" sz="3200" spc="-1" strike="noStrike">
                <a:solidFill>
                  <a:srgbClr val="000000"/>
                </a:solidFill>
                <a:latin typeface="Calibri"/>
                <a:ea typeface="Droid Sans Fallback"/>
              </a:rPr>
              <a: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9:39:15Z</dcterms:created>
  <dc:creator>Tanel Tammet</dc:creator>
  <dc:description/>
  <dc:language>en-US</dc:language>
  <cp:lastModifiedBy/>
  <dcterms:modified xsi:type="dcterms:W3CDTF">2022-02-01T06:16:48Z</dcterms:modified>
  <cp:revision>49</cp:revision>
  <dc:subject/>
  <dc:title>Knowledge representation  lecture 1: intro and overview</dc:title>
</cp:coreProperties>
</file>